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507-7C7C-4E8B-B55D-3B87F369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840" y="4275360"/>
            <a:ext cx="69786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B90-2B91-4154-BFAA-93D02F7B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4072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840" y="427536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40720" y="427536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C7E-4660-471C-8E5B-27E78382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24280" y="165528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83720" y="165528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4840" y="427536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24280" y="427536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83720" y="4275360"/>
            <a:ext cx="22467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E3C-EB05-4E1A-9FC2-55BCDA97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C69-5A91-4160-88FE-31F7645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A6F-B028-4B41-AF4F-869F5C6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052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40720" y="1655280"/>
            <a:ext cx="34052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9FA-D52B-45F2-A68D-C934F2E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EA7-B79C-4973-BD7F-C76F952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31560"/>
            <a:ext cx="699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178-5490-499B-B96A-BDABD0F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40720" y="1655280"/>
            <a:ext cx="34052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4840" y="427536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EC5-700B-4C79-A6F5-077812B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052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4072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40720" y="427536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5E0-8399-4921-95DB-64C797B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40720" y="1655280"/>
            <a:ext cx="34052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4840" y="4275360"/>
            <a:ext cx="69786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FB2-10B2-45F6-8D60-C6E3DA1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48200" y="2028960"/>
            <a:ext cx="12193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Sept 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48200" y="1676520"/>
            <a:ext cx="12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Verdana"/>
              </a:rPr>
              <a:t>Mobile H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8200" y="22712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Slide </a:t>
            </a:r>
            <a:fld id="{CBF0B41D-F72B-43EA-868D-2FA0F56711EB}" type="slidenum">
              <a:rPr b="0" lang="en-US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7760" y="62992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www.appliancestudio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5160" y="336600"/>
            <a:ext cx="1098720" cy="1143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756560" y="28242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ople versus Informa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volution of mobile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 Richard Har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cial re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aying hello is fraught with impl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bout such thing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you have the right to say hel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ey should be expected to rep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the topic in the conversation that follows might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e time is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e place is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ying hello is then a complex social ri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’t we address this in desig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already have, in part: they have invented the “missing call not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that they know who you are, announcing that you want a chat, but letting them decide whether to call back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 even to allow you to avoid answering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a hello that doesn’t necessarily lead to a conver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C0A-DF63-4ACE-AF9C-0D300F7A1E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bye and the dating g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47689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Why is SMS used to say good by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similar rea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void next turns in conver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tell someone you don’t want to go out with them they might s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 no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course using text is “cheap” “cowardly”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 the moral (for us) is that people are using technology to do work for them…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0304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9E1-C81F-42F9-86BA-103549E2DE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 wha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he view from mobile commun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s to bring people together, face to fac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we have begun to point towards the idea that replicating face to face may not be the solution to all users’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actice is so rich and subtle that it requires more than merely face to face conne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examples have merely been about saying hello and saying goodb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other issu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What about information u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3D5-4C88-474F-A6C0-0B1007F04A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s after the hello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edish teenagers: the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g out in cafes and share their mob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e, look what is min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I see yours?”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I spend some of your money?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I see your list of boyfriends?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Do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iends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nging them together in a social sense when they are already face to 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es are letting them do what they have always d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means the devices need to be designed for sharing: this is the criteria for information design, not, say, speed of reading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72C-7094-4B97-8F43-678F060383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’s explore informatio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421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SMS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s’ are not simply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get ke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get shown to fri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get forwar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get ceremoniously dele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22720" y="2422440"/>
            <a:ext cx="3421080" cy="34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E4F-DADB-48EC-A52B-DB7087725B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841040"/>
            <a:ext cx="51814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ecause they are erotic, silly and fu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 in p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importantly texts are often </a:t>
            </a:r>
            <a:r>
              <a:rPr b="0" i="1" lang="en-US" sz="2000" spc="-1" strike="noStrike">
                <a:solidFill>
                  <a:srgbClr val="ff0066"/>
                </a:solidFill>
                <a:latin typeface="Verdana"/>
              </a:rPr>
              <a:t>gif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iving of gifts is nice to 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purning of gifts can be expres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rls keep texts from boys whilst they are dating and shed them when they break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sort of complicated th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239920" cy="50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F8B-34E8-42AF-ACD1-EB7CDF39F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ing an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other empirical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xecutive keeps her partner’s SMS mess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e sends notes back that she thinks he might kee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do many other peo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reate a system of recipro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ave, he gave back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reate memories of the p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kens of what the future might ho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a geography of the head, not a geography of sp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ut NB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MS are also especially personal: email and the home PC don’t appear to have the same prec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leads to all sorts of interesting design ideas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7FF-5D27-4B9E-9080-66FAF5EF76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esign concern should not merely that the communication is 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readable</a:t>
            </a:r>
            <a:br>
              <a:rPr sz="2000"/>
            </a:b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’s what the reading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o it is fr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en it was s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was inten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nd if it is kep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what the 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ab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ritten word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embodies other th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us text can be designed to look like something other than merely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3340080" cy="23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0CD-713A-48BC-9845-5D65F22DDD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is is realised, then a whole raft of design possibilitie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for for such things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wing and keep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throwing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special relationsh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his has to do wi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rminal design and applications (on the device and network bas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don’t forget we have also seen that there are opportunities for designing ways of saying hello and ways of saying goodb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these can help frame conversation: or the stuff of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ther words, ways of commencing and ending communic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D71-D038-4762-BB5D-02DF4EF6FD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design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3421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 ic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o is selected will affect what is sent and how it is recei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o sends it has implications for how it is stored, retrieved and show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design f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ing gifts: multimedia 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need to be ‘instantly do-able’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60840" y="1655640"/>
            <a:ext cx="2543400" cy="501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A21-7E6E-4537-AEF1-D63177612F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agen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hing on keynote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verview of mobile HCI and mobile communications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assumptions, goals and approa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‘porthole problem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iew on human action and 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ying hello and saying goodby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ing fri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ing and giv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lusion: being in touch and sharing 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ocols: beyond the spoken hello and goodby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tion use and design: emphasising social valu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ations in the fu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258-23D4-42D0-A022-A1E23C40D6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ing this in con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ucial to any of these designs is their ability to reflect the unique emotional value given to mobile ph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devices never leave the u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are too valuable, too intim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means that design has to allow use anywhere, any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has lots of i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 f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all enough to be carried all the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ylus data entry isn’t always possible: mobiles may need to be one-han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s will pay for a mobile first and foremost and only for other devices if they have some spare ca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00F-E6CE-486A-83EA-0346B6ACC6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this is not to end variation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because users will choose to carry one device all the time does not mean they might not like other devices some of th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ces to make saying hello easier in certain pl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the motorcycl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e devices that interact with fixed devices in particular pl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Hospit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devices hat allow identity to change (and thus different rules for saying hello and goodby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 ga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E9F-B20C-46B3-B3D9-1E47742669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there is one radical tw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of these suggestions and constraints relate to the user’s control of their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ut what happens if they loose contro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 what if the caller could choose how the callee’s device reacted to the “hell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could imagine a special ring t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ng tones can already be bought and downloaded, but this is by the owner of the phone (and the SI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 the caller is in control, in some part of another’s ph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not only unique sounds, but striking ones to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How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ime Bom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CA-9899-4545-B210-8562D4804B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 and b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ffect, the communications channel would be used to send actionable program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uld be good and bad for soci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uld you let anyone interfere with your phon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 you would, if it wqere special people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ercial resistance might appear t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uld Nokia be wiling to let their devices be vulnerable to virus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resistance might be the very thing that will stifle a new revolution in what mobile devices could b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DD7-EB41-46C9-B37C-180E228823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yond hel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e video phones upset the social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ying hello used to be hard, now it is eas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sing call notes,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t used to be easy to look, but now it is h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can you see, whane can you no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help solve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solution: the folding out picture ph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opened up and placed on a desk, it allows a special set of users to take images or video snaps without the recipient having todo anything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simplex conne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‘presence’ and awareness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t depends upon a layered address book: thus CLI can be used to provide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ne’s kids and partner can look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DCB-7F55-4837-9FC3-1396F76B94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claim is not that these are the best desig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’s another set of pap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claim is there a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 few studies of human 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ill a failure to grasp what it is people 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ailure to address the constantly evolving problems of everyday li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can be solved by new devices, if only we bothered to try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400-A390-4E64-B1A2-7352702E4C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no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’re easier to do than reviewed paper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y offer overviews and grand though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mpous comments and invocations to do bet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about old dogs telling young dogs how to ba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e I want to suggest that the balance of mobile HCI and mobile communications research needs adju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HCI—Less effort on, say, information design in the abstract and more on specific social communication for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mobile communications—Less effort on replicating face to face and more on communicating various form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oes not meant that the traditional goals are unworthy, but need balan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|Just the kind of thing an old dog would s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AD8-1381-4260-8832-12DBEE623D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bile H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technology push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do it so let’s see what happ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ew on the problem of information use and navigation on small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about the problem of stuffing information into a small device and then getting it out a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few reduce the problem by invoking con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s explore the relationship between handheld and other devices (the local mobility iss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a very few look at mobile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do people do and wh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ways of augmenting human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ying hello, playing games,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5F8-39C4-4432-B30B-CC2E363558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bile commun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HCI, it’s generally technology push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do it so let’s see what happe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n not by a concern with information, so much as replicating face to 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orst connectivity is the written letter; the best is fully duplex video-conne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the nearest thing to face to 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papers seek to move the comms. channel to offer an experience like face to 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between are various papers that offer novel but short term solutions 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ing face to 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3B9-C0CF-4169-BBC3-20044B536C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the porthole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2286000" cy="184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1474920" cy="198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371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Stuff it i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1752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Peer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905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And there is the magic of social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9528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Whether it’s the delight of simulated face to face  interaction or the wonder of any information any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DCA-B74A-4E66-B174-56C2F72836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cial Action and Human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you don’t find much on want people actually want or need or simply ‘do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What might those wants, needs or doings b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n’t find it in the mobile HCI literat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y a little research  actually addresses the question of what is useful and what is perceived  (as) problematic from the user perspective~” (Kjeldskov &amp; Graha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o we just go and look?…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: What people do and why it is important is oddly easy to mis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saying hello and saying goodb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’s easy isn’t 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D29-9869-4DBE-8C8D-8736A97860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0666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mobile industry ‘C.L.I.’ i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‘nice to have’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hing that stops offensive phone ca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eans that the caller’s phone number is recognised at recipient e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is is combined with a name in the recipient’s address book, then the caller’s identity is made view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?- for users it is a big bene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the example of calling someone’s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use the mobile or the fix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h, God! I hate speaking with your dad!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you “do a missing call note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 me explain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655640"/>
            <a:ext cx="2743200" cy="501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6DF-71E8-4418-9A62-67657F9C5D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69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lo in the dating g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4840" y="1655280"/>
            <a:ext cx="6978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he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y do teenagers ring someone when they are face to fac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get in their address book: well yes, but again, wh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that they can call you later and you can manage the hello bet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that you can do things that you might otherwise might find it hard to, such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saying hel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next turns in conver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specially in relation to such things as: Asking out and being asked ou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ying to circumvent the possibility of the question: why don’t you want to go out with m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t’s more than mere etiquette: this mat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might be you being asked now, it could be you doing the asking tomorr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dafo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CDD-F959-4C17-95B3-74E1FFC24F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3:09:13Z</dcterms:created>
  <dc:creator>Simon C R Lewis</dc:creator>
  <dc:description/>
  <dc:language>en-US</dc:language>
  <cp:lastModifiedBy>richard harper</cp:lastModifiedBy>
  <dcterms:modified xsi:type="dcterms:W3CDTF">2003-09-09T06:47:00Z</dcterms:modified>
  <cp:revision>83</cp:revision>
  <dc:subject/>
  <dc:title>PowerPoint Presentation</dc:title>
</cp:coreProperties>
</file>